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C0A-C912-41A8-9B22-DB1B7D33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1BF1-9390-4DE1-B95D-4BC6BA5E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DB1F8-776F-4E5B-96B0-035EFC9A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49A91-C64C-4EC1-9FB8-F5E5D2B3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5CC03-B85F-47B4-B32F-93EE7D4D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3CA27-CC37-4F48-A632-CCBC675F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7CA4F-EE4A-49CF-9516-C6D01FFB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E28EA-45F1-4AA1-8EBD-5F00927C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54903-87CE-4FC1-80C7-A4ECD29F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CA996-1ECF-4E2A-8260-7350FBD5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F5C9E-3D8A-43D0-9EBE-6BB4744E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56498-E330-4E05-9FC1-EAFB8177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557-9A70-4380-8E21-AADC9B2C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687F0-6EAA-4BD0-8E8A-056A91AD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36D45-7ECA-4D8C-B463-A0DF435E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EB810-6BB2-4572-BA31-B109A2BC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F84B3-235A-483A-8244-FB3DAA8D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D39DA-D860-44C6-9666-280BFB7B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59272-6377-4C0F-B949-097EE679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8F880-5C17-40F8-8655-EF479C7F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7362B-599E-4785-823F-ED3C8CBA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9100F-9689-4887-A3FD-D7021877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164BF-F5D0-4FB6-BB03-80C550AB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895E-3370-48DD-841E-0C44282A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26702-B7B8-4C64-A42C-5CA06E14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05EC2-A70E-4020-8809-CBCE9535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55DEB-9E91-4FB3-87B2-575DA916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CB2ED-09A9-4C66-8306-E572B550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FEC22-BB16-4126-AB6F-E36DAEA2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09D8D-C1FE-4B1E-9998-933BFA1F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CC4CF-A346-40EA-A448-509E86FB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63740-2D8A-42CE-B872-445C45E3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9B102-B3E0-4C30-A003-B821DCD2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E53B6-DBD5-44D3-A588-4EC79903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01AF-E858-4D78-BC20-26179EFC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365CC-D181-4D7D-9A70-4D0DEFCD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73FA6-8AAE-49DE-B3CF-21FA2CA4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2BA18-61D5-4B5E-9B15-C2BA1D76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125FD-3649-4C13-965D-3AA22CF4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FC995-B308-4623-8A04-4D854D62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78DE8-DE11-45D0-9982-CDD761FA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9F82A-6B1B-4B74-9C82-59D61C3C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72E6D-2E2A-4829-B54B-0EC45160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61301-EACD-48CA-A396-60D2E3C2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6B06D-4C06-4608-966A-DC118AD9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C3B1-9940-44EA-91A3-5B2D7F3D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DCAB6-09F6-419E-B8EF-265304C4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C413E-D6F9-4AB8-8E2A-FC2B3407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661F6-CC08-41C2-BBB2-1109D2E0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1FC1D-6DDC-4C6A-BD45-CD61BA08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BEB63-D4BA-4EB3-AD99-6A6E0BDC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CBE5A-3EF4-4017-ACE3-A49F14CD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2ADF5-CA49-4C1A-BA09-F6177782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79B44-4239-4662-A3A2-F1A9EF62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6D898-74E2-4149-A91D-AAD7E2E6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36D88-9663-4957-B1F9-58443A9C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2DA7-98A4-4001-9C10-039F482F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0B6B2-133C-4666-B82C-6DF83785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25028-7360-4E4E-A0B9-17E08FAD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00822-7693-4018-A6EE-CA46E526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D8B1F-8EFF-4A66-9ABB-0AB077D6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F03A3-CEEC-468F-B628-C909CB6A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9DD2D-4603-4962-8755-B409692F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9BCE4-CABA-4138-AB31-BF44585C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197940-4EDC-42A0-9C8B-F9D6B108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A8C4C3-4C6D-446E-85E8-05EB18EE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952E6D-153F-479E-BAA3-81C9F70B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4DE1-E420-47C0-8561-2DABB68B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ACC092-E047-4C6E-8689-1CAD1D71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BB702C-95FD-4525-86C1-DA703AC6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6F5712-244D-4C56-BBF4-D5634F26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3BCD08-FC5E-4778-87E9-DFF62F5B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CF946A-9038-40DA-8880-E67D4541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8701D-F4D9-42ED-8716-3E76C9C2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14D5B4-E526-44C2-99C7-B42816D7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BB4974-A8C0-448E-8675-80DA6EE4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0BE63E-EDA0-4539-B823-0C315736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288702-22B9-49F7-83FE-B8EE2185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1B5A-EB07-40C4-9C96-B3C85A1F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384258-CAF6-4206-A2B8-2B204091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A293E2-E088-4A9F-8F37-DA2EEF7F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FE8E3C-EC35-43E7-A32A-AE0EBA69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E16DD5-1236-4459-9AB1-55A6FF8A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640F66-DBF8-4770-B9A6-7CED104E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E69BF9-F8F3-4C73-8C75-47E31058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86F79C-0A06-4654-A7B0-11D96A16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1BDBAB-1DD9-4855-9FF1-0462AB3F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4144FA-A8C1-45FD-AD99-4BC75BFB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4D0BE4-C33E-4922-9EFF-20E74255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D626-4DFF-4D7D-A36E-C3EA14D0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443033-0A79-4D35-8BF4-2D2C94A4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C2BC98-AC62-4E06-9864-0C675DE6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B1D8BD-BBFD-4BC6-9B57-0C1F9E19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BE6ACE-8160-4080-9E22-C2461935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D157ED-238A-4543-8FF5-B7F40E47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4CBCD6-E9C2-4381-A783-5D03864D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B3113C-950B-4AC6-BAFA-D1BB6BCC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1E0C9-6BC6-4322-BEF5-BA655321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11E488-61F7-4A0E-AA93-F54687CE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52237B-C706-46DE-9634-5FF25AD9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182B-0193-47FD-950B-C54BA52C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2FF732-A2B1-46D6-B1DD-8F1F40BC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194EAB-7EB2-45EF-A935-422D44AF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587BF1-0E1B-4535-98D8-0C7F0A5E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AE4987-4CE1-4A68-BDEA-E531CB6B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B65340-B07A-44B6-8DB6-35EAD365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77CD0D-F3C6-45E2-97F1-B4610AFF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594AF5-CFFE-415A-8D3E-968F49FD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0FA388-F980-4E85-8487-4A5D00F1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8ABEB4-45D5-462E-B67D-0064CA97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B94F76-374F-4C80-B509-927C8302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4B9-7196-424A-B58E-5A636E40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2E4A-103A-46DF-88D0-09D7074C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47A61E-CEA2-4477-9C39-0558CA23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7D9470-8E13-4DBF-807A-96BA2671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5B4F40-8B6A-4BC9-BBDC-C1B0C990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06C227-ACD6-481F-8C6C-65C4FAAB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A92C34-7FAF-4494-82B7-812B5511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CA6BFC-FDEB-4885-8EF3-2C23094B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C37D08-1921-4917-A3E4-63B38AF6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3E28AB-A17D-48AD-9875-E03DEB78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7DE4D2-D80C-43D5-8B8B-1F655B86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641FB4-0DBA-44E8-98BD-773A43D9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841B-772F-40D6-BE7A-80AC06CB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2DAE48-53F6-4F72-A7A2-32E8565F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061169-ED1E-4759-9ED0-0E244968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CD495F-F56A-444A-BAC5-8641B681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9CDC2D-40EB-4613-B478-F631728C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D19513-1BE3-4B8E-AF1A-7FF53A71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B89E5A-A085-4244-A378-3EECB696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C5C005-912F-4F9B-BEC2-79D57D81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550BDC-047B-4957-ADE9-FB0D756B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B3CC56-E8A6-4520-A986-E3185505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11E993-42B4-438D-9981-76477512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FD2F-9906-418B-84C1-3D78E19D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45FC53-5152-4CA3-8C76-08B93254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5D8C12-8036-4230-BC59-DE5AA704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6553EC-D921-456A-AC19-38212331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6CE361-AC5C-4BB9-BB20-AE3D94AF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3EB3CF-BF57-4D15-B0FC-A7AF30C5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22DE43-6C67-43C8-B7A8-B254E2AB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E3FCE6-08BD-44C3-ACCB-8E7B842E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64C009-7FAF-4856-99EB-8659434F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4E22BF-0AD1-46C3-A8A5-3656330C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66CE6C-62FA-4DD6-9E92-86EBE6AB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A21C-2A48-4F50-A08C-95A0ED10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73DD52-71A0-4F91-8734-6EE73B15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E70663-6EED-4421-9890-93BCABA3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1CA65E-4613-4552-9624-F3DE9B14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D22D92-36AE-449A-B4B8-68755FF9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8A6FEF-80AE-4274-A56C-6911A537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FAEB1A-C3B1-4795-9C92-D1F83309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7DD4CE-41C0-4A6D-9D2D-84ED8FC3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7142A0-0161-4B85-B332-AE99C878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BE0686-F55D-46BE-B106-62EB2911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1C1F4F-5AF1-472B-B80A-35B46995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7B75-7AB7-40B9-BEEE-6255791D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7F6EB5-124B-4797-A1E1-6AAA3968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5617C3-F9CA-4A3D-93D4-A2ECAABF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221509-6097-4CDF-BA2D-ACFDCBA4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9C394F-254F-44A6-8CBD-C0E282EC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F86422-96B9-4935-9235-8B145FB7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BC34C9-987B-425B-8E08-83849E2F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7D1E45-3C7C-485A-990D-8BD391D0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12E770-A06A-46B3-BE17-B8136C2B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1603B7-045D-4951-A264-9F0F313B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0288FD-C722-436C-B3E3-BE3DAED3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CDFB8-B61D-4391-971C-0F346102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7EAE2F-73DC-4CCB-9E2B-C80E07F8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C691A4-976D-456E-B06A-1CF1AD7E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2390ED-F1C9-4500-884F-2A610A6B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620D34-B832-4423-B6B9-C1759580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CD50AA-1E0C-445E-877F-E1271FB6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F32861-F834-4972-AD2B-D2C99437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43FADE-5494-422E-A209-CA8FDDFB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3DA44A-AFC2-4F8B-9DAA-43ABDFC3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74EB9A-6191-4683-8D2A-ED396301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36D2D9-3BEA-4DA9-ABE7-6A5F2EE5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D18AC-8DC4-476E-B09B-A85E7AFD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B2E559-D8BA-4455-8900-B6368599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043987-E9D0-451C-908E-084B462A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32CBF2-0927-429A-9CAB-BA9902BC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7750DA-B0B4-4DD6-BF51-564C3540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93A9AB-C9C6-474F-9D35-3BC4FE26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8D209-939E-45DC-893C-8F5CC325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06331-1059-410E-B988-D30C01D9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3FDB9-89AB-4BA5-B689-E16F22DD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FAC-3D4C-4A7D-BFF9-1DC80A9C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C027D-8C12-4E13-91EE-AEA44D7F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8CF06-5598-4B37-A5A4-99BFC1FA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40832-E464-4CB4-A31C-E0809412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1AF4E-0B92-4BDA-96D3-A794CCE6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5E663-AAAD-4422-A846-006BC923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ACA50-AE4A-4B8B-847D-ADC7EA35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5C2B4-7A9B-4356-9C7E-C6059097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ABAC0-6F8D-4EB1-84E1-A8364E6D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BC7FD-31AD-4522-A756-5A071C07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24B23-7C2B-43B4-9454-2E9E7248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967-05C7-4DCE-9028-10C35AB3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F5B08-82FC-4159-857E-0E64293E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840BE-DEE0-4B51-B475-2D3A48DB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06C83-E262-4D40-BD7A-CBD9AD55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6BD43-9954-4946-BBFF-BBA2C746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E112F-0070-44ED-BFD7-537104F7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8F0DB-F73A-4F88-A9F9-3FFD4666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10E80-76DA-46CF-960F-AA028137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097CA-AEA2-4C4E-9C9B-701F2E31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BB42E-BD66-4170-B6F9-AE5320C8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38923-0F92-4D8A-860B-6EE85647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273-0733-43A3-B5D5-E553CE3E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03B96-9B1D-4A83-BD59-67780A50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9F280-27B6-4E9B-8A40-B04791D4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FE2AA-9138-4474-9B53-C84C716C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D3097-F3B7-4B52-AF32-0E47D6DD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E1274-B350-4FF1-BC51-3E2349D4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F403A-CE8C-4DE4-905A-7FC3DE10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911FB-C676-4075-AD46-BD1F7F1B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BB090-8CED-4CF8-8D1F-631EA0E9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61C46-CB3D-404F-9C78-90054152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BB36D-8B98-4974-9461-7344F493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24F-3CD5-48A2-8F02-700CC9D7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3B252-3102-4DD7-85BD-BAC72EF0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FB70E-26DB-4985-993A-2D43EEC0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75B30-2B61-4D4D-8B84-107CA591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13283-A835-4643-9267-ACA3865E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D2212-02F5-4834-9D84-A278247B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6A998-C5F8-4D1C-8B17-E2216A01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A9962-F57F-4041-93FF-1A374E92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0951F-B32F-4AB7-A522-550DD0F4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736D8-2D24-4619-98C0-315B70B4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F9214-2F92-42E0-B43E-D7E8302C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A7B-E8C0-450F-8E25-B848260A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35709-844F-4DAC-AC1B-FD968B22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706FE-9AED-4CE6-88F4-0FADC37A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F1A4E-BC87-4E37-8B69-6042EE05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FAA27-1711-4F2D-A1B5-80731F2F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83980-A4BA-4626-8A33-6E04A0B2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7A0BD-BE0E-42AB-8F57-F4CF139E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D8DD9-E134-4809-A13C-FFC9DF38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CDAC7-631A-4829-8AA0-1E3B0ECC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12F03-F11F-464D-BD2C-F403BF7A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1BE8C-E650-4EAD-973E-1151963A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888-1F92-44E6-B0B6-607AED57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410B8-2CB3-4DFC-A54E-6CB43127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4F25F-B49C-47A7-A08B-549E8F26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EC453-EF85-4223-9CE3-F78DAC07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E945D-7F17-43F9-8ECF-5E1553AF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3687B-C199-4B7F-B6A6-F9F5D95D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14124-CFEA-4443-8405-05DFAD68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E8096-D049-4802-84A6-85FD2471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6983C-D73F-4439-B50A-D3F97923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91744-B5B5-4ABB-860E-113EEFFF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D35D1-BF93-44B2-9EF5-F661C976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E36B-FC30-4D5A-B6BF-D94AE94D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DD466-C5AB-4D6D-BBDF-08775C08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EE5A0-5AD6-48E5-A702-D6C1AF28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66BF6-609D-446F-A80C-167AA30A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6F6DA-4154-47CE-8F5C-763F8077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063C6-E3ED-467E-ABDD-305A97EE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00E6D-6461-496A-8A56-AF88A2D6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508D1-5917-411E-947A-0E411C6E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CBEE6-4806-484D-9BDD-8C5E694B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C9FC9-6029-46C9-92AB-7B583E39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2F553-60F3-459F-B62C-1706B737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B64A-0F96-49E7-B9A6-9551B584D4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FDF7-7437-4275-AB58-CF935F6C2C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BC83-C2FE-4C5B-993F-15E94E2382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1DD0-C3AB-4093-B85E-050FEB9D14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7D90-F828-4641-97E2-65AAB6C471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EE2E-3505-42F0-82F4-AF0D3320DE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B678-7D28-4A0E-BAE7-55C8DD2419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A823-22AD-4DB0-8AC4-7E68E4E90A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0F61-0276-45D8-B4E2-2B4FD9E857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15D7-10F5-4131-BA7A-E35DFBD686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BF3D-AD0E-4C08-8FA0-EB64D8B5C2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D47A-A194-4553-95CF-06AD9D07B3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BD74-3CAE-4D90-91F5-0BCBD820DF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A1D1-71D2-48CC-86EA-D1F79F75EE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A6D7-2D60-4325-8479-210F2AEA1D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1B9F-254B-4E13-B1C6-8E253A7978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7E26-8B9A-4007-B29B-FC8DD797E2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59B7-8F04-4317-870F-A14D120D6F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3B50-FFD6-4B3E-8934-E7BE5DE225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C5B7-288B-41BF-A882-C7BE6692E8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8142-E6E0-4008-A040-7267F1BA67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3DD9-DDA9-4FE0-A7DB-463EB60E66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5E40-6848-4FEC-B5C6-5F1FD8AB62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D078-7855-452C-AD01-541208BC5B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A845-0499-46D3-8F6F-BE638C2A5D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ABF9-1BC6-45A0-A5E1-5B0224AA49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938A-6D50-4637-B893-A52C1CE69B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545B-5FAB-4F37-9FAB-EF3E008096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BFBA-44FF-4E76-8818-3384FFEE23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E50D-0A0F-45F6-AE08-DF7AA00E4D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1A35-EC99-49F1-A15F-BF4555047D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12D2-F961-4AFA-BD7D-FB93CD59FA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B15C-3D50-4CF2-9E06-593F31D766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C7F1-E5D2-485E-B91F-8790DF6DB0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CE36-A558-4C00-B8C1-4827E3B66B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44FD-F41B-452E-A7FA-84843C031F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94E7-A26A-439D-AB85-F45B20C7E1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0E8F-9FBF-46C1-8847-D766158295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0D86-3E25-470A-9E79-E352FAAA24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346C-F8EB-4907-A310-2E5503E79A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9D9B-B65A-49F1-B3E4-1B30A3616B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909720" y="2733840"/>
            <a:ext cx="7324560" cy="13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262080" y="976320"/>
            <a:ext cx="8619840" cy="490536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146" descr=""/>
          <p:cNvPicPr/>
          <p:nvPr/>
        </p:nvPicPr>
        <p:blipFill>
          <a:blip r:embed="rId2"/>
          <a:stretch/>
        </p:blipFill>
        <p:spPr>
          <a:xfrm>
            <a:off x="1116000" y="2162160"/>
            <a:ext cx="2190600" cy="129528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6148" descr=""/>
          <p:cNvPicPr/>
          <p:nvPr/>
        </p:nvPicPr>
        <p:blipFill>
          <a:blip r:embed="rId3"/>
          <a:stretch/>
        </p:blipFill>
        <p:spPr>
          <a:xfrm>
            <a:off x="3909960" y="2103480"/>
            <a:ext cx="2305080" cy="1343160"/>
          </a:xfrm>
          <a:prstGeom prst="rect">
            <a:avLst/>
          </a:prstGeom>
          <a:ln w="0">
            <a:noFill/>
          </a:ln>
        </p:spPr>
      </p:pic>
      <p:pic>
        <p:nvPicPr>
          <p:cNvPr id="966" name="图片 6149" descr=""/>
          <p:cNvPicPr/>
          <p:nvPr/>
        </p:nvPicPr>
        <p:blipFill>
          <a:blip r:embed="rId4"/>
          <a:stretch/>
        </p:blipFill>
        <p:spPr>
          <a:xfrm>
            <a:off x="6659640" y="2116080"/>
            <a:ext cx="2066760" cy="13431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1908000" y="3573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4716360" y="3573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7451640" y="3573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1763640" y="5516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6315120" y="5530680"/>
            <a:ext cx="3585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7169" descr=""/>
          <p:cNvPicPr/>
          <p:nvPr/>
        </p:nvPicPr>
        <p:blipFill>
          <a:blip r:embed="rId1"/>
          <a:stretch/>
        </p:blipFill>
        <p:spPr>
          <a:xfrm>
            <a:off x="581040" y="1585800"/>
            <a:ext cx="7981920" cy="36864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4356000" y="23335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4"/>
          <a:stretch/>
        </p:blipFill>
        <p:spPr>
          <a:xfrm>
            <a:off x="6804000" y="2349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5"/>
          <a:stretch/>
        </p:blipFill>
        <p:spPr>
          <a:xfrm>
            <a:off x="2700360" y="3284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6"/>
          <a:stretch/>
        </p:blipFill>
        <p:spPr>
          <a:xfrm>
            <a:off x="5076720" y="3284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7"/>
          <a:stretch/>
        </p:blipFill>
        <p:spPr>
          <a:xfrm>
            <a:off x="2268360" y="4422600"/>
            <a:ext cx="790920" cy="3193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8"/>
          <a:stretch/>
        </p:blipFill>
        <p:spPr>
          <a:xfrm>
            <a:off x="4859280" y="4394160"/>
            <a:ext cx="790560" cy="31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9"/>
          <a:stretch/>
        </p:blipFill>
        <p:spPr>
          <a:xfrm>
            <a:off x="7596360" y="4394160"/>
            <a:ext cx="790560" cy="3189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10"/>
          <a:stretch/>
        </p:blipFill>
        <p:spPr>
          <a:xfrm>
            <a:off x="2195640" y="4797360"/>
            <a:ext cx="790560" cy="3193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11"/>
          <a:stretch/>
        </p:blipFill>
        <p:spPr>
          <a:xfrm>
            <a:off x="4859280" y="4811760"/>
            <a:ext cx="790560" cy="3189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12"/>
          <a:stretch/>
        </p:blipFill>
        <p:spPr>
          <a:xfrm>
            <a:off x="7596360" y="4811760"/>
            <a:ext cx="7905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图片 8193" descr=""/>
          <p:cNvPicPr/>
          <p:nvPr/>
        </p:nvPicPr>
        <p:blipFill>
          <a:blip r:embed="rId1"/>
          <a:stretch/>
        </p:blipFill>
        <p:spPr>
          <a:xfrm>
            <a:off x="566640" y="1962000"/>
            <a:ext cx="8010720" cy="29340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2"/>
          <a:stretch/>
        </p:blipFill>
        <p:spPr>
          <a:xfrm>
            <a:off x="3578400" y="34146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3"/>
          <a:stretch/>
        </p:blipFill>
        <p:spPr>
          <a:xfrm>
            <a:off x="4081320" y="338616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4"/>
          <a:stretch/>
        </p:blipFill>
        <p:spPr>
          <a:xfrm>
            <a:off x="4614840" y="33861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5"/>
          <a:stretch/>
        </p:blipFill>
        <p:spPr>
          <a:xfrm>
            <a:off x="5710320" y="34005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6"/>
          <a:stretch/>
        </p:blipFill>
        <p:spPr>
          <a:xfrm>
            <a:off x="6213600" y="33861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7"/>
          <a:stretch/>
        </p:blipFill>
        <p:spPr>
          <a:xfrm>
            <a:off x="7280280" y="33861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8"/>
          <a:stretch/>
        </p:blipFill>
        <p:spPr>
          <a:xfrm>
            <a:off x="7812000" y="33861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9"/>
          <a:stretch/>
        </p:blipFill>
        <p:spPr>
          <a:xfrm>
            <a:off x="3851280" y="37306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10"/>
          <a:stretch/>
        </p:blipFill>
        <p:spPr>
          <a:xfrm>
            <a:off x="7093080" y="3716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11"/>
          <a:stretch/>
        </p:blipFill>
        <p:spPr>
          <a:xfrm>
            <a:off x="3635280" y="41641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12"/>
          <a:stretch/>
        </p:blipFill>
        <p:spPr>
          <a:xfrm>
            <a:off x="4932360" y="4149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13"/>
          <a:stretch/>
        </p:blipFill>
        <p:spPr>
          <a:xfrm>
            <a:off x="3924360" y="4595760"/>
            <a:ext cx="3585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17:0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